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9D65697-8044-4519-A860-E8D253E06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F82549B-928E-490F-86C2-4CBC5070CD8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0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0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12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kriitilin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esmär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k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lihtsu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te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17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üsteemide komponendid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4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hitektuur suuremas pildi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lulisi punkte arusaami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üsteemide kompon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üsteemide sidu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eistest arusaa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arkvara litsentsid ja vabatarkvara litsentside näit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49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76320" y="1676520"/>
            <a:ext cx="8918280" cy="45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61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üsteemide sidumine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jalooli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n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vaa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de kolmele os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8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mis on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lnud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ook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1945-1970                       1970-1995                   1995-2020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) </a:t>
            </a:r>
            <a:r>
              <a:rPr b="0" lang="et-EE" sz="1800" spc="-1" strike="noStrike">
                <a:solidFill>
                  <a:srgbClr val="cc0000"/>
                </a:solidFill>
                <a:latin typeface="Calibri"/>
                <a:ea typeface="Calibri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B) </a:t>
            </a:r>
            <a:r>
              <a:rPr b="0" lang="en-GB" sz="1800" spc="-1" strike="noStrike">
                <a:solidFill>
                  <a:srgbClr val="cc0000"/>
                </a:solidFill>
                <a:latin typeface="Calibri"/>
                <a:ea typeface="Calibri"/>
              </a:rPr>
              <a:t>Tarkvaraplatvormid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rogekeeled 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C) </a:t>
            </a:r>
            <a:r>
              <a:rPr b="0" lang="en-GB" sz="1800" spc="-1" strike="noStrike">
                <a:solidFill>
                  <a:srgbClr val="cc0000"/>
                </a:solidFill>
                <a:latin typeface="Calibri"/>
                <a:ea typeface="Calibri"/>
              </a:rPr>
              <a:t>Tootmise organiseerimi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firma, avatud   -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9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3240" y="-2376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0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210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1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224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8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29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231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37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239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5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258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63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265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71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273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8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289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298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307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316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325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335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9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341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346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351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5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357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istest arusaamine on põhiküsimu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6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7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rkvara arhitektuur suuremas pildi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39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39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40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40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41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42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42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43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43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44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44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45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45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46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46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47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47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48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48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48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49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49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50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50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51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51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51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52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52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53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53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54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54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55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55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56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56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56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57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57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58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59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59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60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60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61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1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62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63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63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64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65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65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66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66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67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67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68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68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69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70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70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48880" y="-141480"/>
            <a:ext cx="76964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: society and peo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921440" cy="63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e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&gt;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   -&gt; 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2" name="Group 3"/>
          <p:cNvGrpSpPr/>
          <p:nvPr/>
        </p:nvGrpSpPr>
        <p:grpSpPr>
          <a:xfrm>
            <a:off x="901800" y="609120"/>
            <a:ext cx="7764480" cy="311400"/>
            <a:chOff x="901800" y="609120"/>
            <a:chExt cx="7764480" cy="311400"/>
          </a:xfrm>
        </p:grpSpPr>
        <p:sp>
          <p:nvSpPr>
            <p:cNvPr id="713" name="Line 4"/>
            <p:cNvSpPr/>
            <p:nvPr/>
          </p:nvSpPr>
          <p:spPr>
            <a:xfrm>
              <a:off x="901800" y="9129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5"/>
            <p:cNvSpPr/>
            <p:nvPr/>
          </p:nvSpPr>
          <p:spPr>
            <a:xfrm flipV="1">
              <a:off x="8666280" y="60912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5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rkvara litsentsid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2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evinumad kommertslitsentside tüüb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Single-user licen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- The software is licensed for a single user and often a singl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ulti-user licen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- This license allows you to install a program onto multiple computers used by multiple users. Typically this may be a set number of users. For example, a five user multi-user license allows up to five people to use the progr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Site license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A program can be installed on an unlimited amount of computers, as long as they're at the location of the site license. Site licenses are usually for schools and business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2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Rectangle 2"/>
          <p:cNvSpPr/>
          <p:nvPr/>
        </p:nvSpPr>
        <p:spPr>
          <a:xfrm>
            <a:off x="853920" y="45720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ga autor võib litsentsi panna misiganes tingimus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te / keeruliste süsteemide puhul tarkvara tihti ise ei kontrolli tingimuste täit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3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3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4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urem pilt: milleks me süsteemi ehitam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7080" y="790560"/>
            <a:ext cx="784872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Isosceles Triangle 1"/>
          <p:cNvSpPr/>
          <p:nvPr/>
        </p:nvSpPr>
        <p:spPr>
          <a:xfrm>
            <a:off x="1143000" y="984240"/>
            <a:ext cx="6477120" cy="5416560"/>
          </a:xfrm>
          <a:prstGeom prst="triangle">
            <a:avLst>
              <a:gd name="adj" fmla="val 50000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3"/>
          <p:cNvSpPr/>
          <p:nvPr/>
        </p:nvSpPr>
        <p:spPr>
          <a:xfrm>
            <a:off x="365760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5"/>
          <p:cNvSpPr/>
          <p:nvPr/>
        </p:nvSpPr>
        <p:spPr>
          <a:xfrm>
            <a:off x="3076560" y="320184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14"/>
          <p:cNvSpPr/>
          <p:nvPr/>
        </p:nvSpPr>
        <p:spPr>
          <a:xfrm>
            <a:off x="2373480" y="4343400"/>
            <a:ext cx="40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752400" y="9921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Ärivajadused”: mida ja milleks tahame saavutada: ei ole otse tarkvara küsi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867280" y="201312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õuded: mis on olulised asjad tegelikes “äriprotsessides”, mida peab arvest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306360" y="30067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rhitektuu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kuidas süsteem üldjoontes peaks olema ehita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7010280" y="426708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Kasutajaliidese ja tehnoloogiliste detailide disain,  arendus, test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urem pilt: vaja tekitada hea suhtlus ja arusaami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3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551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Fundamentaalne vastuolu / pin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op dow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Reaalset “milleks seda vaja on” ehk ärivajadusi ja “mida peab arvestama, ehk mismoodi hakatakse kasutama” teab paremini (a) juhtkond ja (b) tulevased reaalsed kasutajad. See toob kaas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ottom u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Kuidas teha, mis on reaalne teha, mis lisaküsimused tekivad jne teavad paremini arendaja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ti on hea mõte suunata vajalik info kõigile osalistele, ehk, hoida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õik pidevalt aruteluprotsessi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Mh, et arendaja teaks ja tunnetaks ärivajadusi ja nõud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viis seda teha on nn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giilne arendamin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äikeste funktsionaalsuste kaupa ja näitame / arutame seda pidevalt juhtkonnaga ja tulevaste reaalsete kasutajateg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rkvara arhitektuur ei ole eriala või eraldi distsipli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439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kipedia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: 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inions vary as to the scope of software architectur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croscopic system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this refers to architecture as a higher-level abstraction of a software system that consists of a collection of computational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mpon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gether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nect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hat describe the interaction between these component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important stu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—whatever that is: this refers to the fact that software architects should concern themselves with those decisions that have high impact on the system and its stakeholde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at which is fundamental to understan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system in its environme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ngs that people perceive as hard to chan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since designing the architecture takes place at the beginning of a software system's lifecycle, the architect should focus on decisions that "have to" be right the first time. Following this line of thought, architectural design issues may become non-architectural once their irreversibility can be overc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set of architectural design decis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software architecture should not be considered merely a set of models or structures, but should include the decisions that lead to these particular structures, and the rationale behind th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re is no sharp distinction between software architecture versus design and requirements engineering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9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lulisi punkte arusaamisek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10-14T07:23:31Z</dcterms:modified>
  <cp:revision>59</cp:revision>
  <dc:subject/>
  <dc:title>No Slide Title</dc:title>
</cp:coreProperties>
</file>